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hem4kids.com/files/elements/030_speak.html" TargetMode="External"/><Relationship Id="rId2" Type="http://schemas.openxmlformats.org/officeDocument/2006/relationships/hyperlink" Target="http://www.chemicalelements.com/elements/zn.html" TargetMode="External"/><Relationship Id="rId3" Type="http://schemas.openxmlformats.org/officeDocument/2006/relationships/hyperlink" Target="http://www.webelements.com/zinc/atoms.html" TargetMode="External"/><Relationship Id="rId4" Type="http://schemas.openxmlformats.org/officeDocument/2006/relationships/hyperlink" Target="http://elements.vanderkrogt.net/images/portret/marggraf.jpg" TargetMode="External"/><Relationship Id="rId5" Type="http://schemas.openxmlformats.org/officeDocument/2006/relationships/hyperlink" Target="http://www.webelements.com/zinc/history.html" TargetMode="External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ebelements.com/periodicity/discovery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104480" y="-495720"/>
            <a:ext cx="10464840" cy="416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449280"/>
                <a:tab algn="l" pos="898560"/>
                <a:tab algn="l" pos="1349280"/>
                <a:tab algn="l" pos="1800360"/>
                <a:tab algn="l" pos="2249640"/>
                <a:tab algn="l" pos="2698920"/>
                <a:tab algn="l" pos="3149640"/>
                <a:tab algn="l" pos="3598920"/>
                <a:tab algn="l" pos="4049640"/>
                <a:tab algn="l" pos="4498920"/>
                <a:tab algn="l" pos="4950000"/>
                <a:tab algn="l" pos="5398920"/>
                <a:tab algn="l" pos="5850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800" spc="-1" strike="noStrike">
                <a:solidFill>
                  <a:srgbClr val="ff20ab"/>
                </a:solidFill>
                <a:latin typeface="Princetown LET"/>
                <a:ea typeface="Princetown LET"/>
              </a:rPr>
              <a:t>Z</a:t>
            </a:r>
            <a:r>
              <a:rPr b="0" lang="en-US" sz="28800" spc="-1" strike="noStrike">
                <a:solidFill>
                  <a:srgbClr val="2451c3"/>
                </a:solidFill>
                <a:latin typeface="Jazz LET"/>
                <a:ea typeface="Jazz LET"/>
              </a:rPr>
              <a:t>i</a:t>
            </a:r>
            <a:r>
              <a:rPr b="0" lang="en-US" sz="28800" spc="-1" strike="noStrike">
                <a:solidFill>
                  <a:srgbClr val="f55a19"/>
                </a:solidFill>
                <a:latin typeface="PortagoITC TT"/>
                <a:ea typeface="PortagoITC TT"/>
              </a:rPr>
              <a:t>n</a:t>
            </a:r>
            <a:r>
              <a:rPr b="0" lang="en-US" sz="28800" spc="-1" strike="noStrike">
                <a:solidFill>
                  <a:srgbClr val="2cf20f"/>
                </a:solidFill>
                <a:latin typeface="Cracked"/>
                <a:ea typeface="Cracked"/>
              </a:rPr>
              <a:t>c</a:t>
            </a:r>
            <a:endParaRPr b="0" lang="en-US" sz="28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b8720"/>
                </a:solidFill>
                <a:latin typeface="Gill Sans"/>
              </a:rPr>
              <a:t>By:Macy Spence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A Zinc Ring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Zinc Is In Your Body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7074000" y="4667400"/>
            <a:ext cx="4635360" cy="21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Bibliography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54908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99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racked"/>
                <a:ea typeface="Cracked"/>
                <a:hlinkClick r:id="rId1"/>
              </a:rPr>
              <a:t>http://www.chem4kids.com/files/elements/030_speak.htm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99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ww.chemicalelements.com/elements/zn.html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99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ww.webelements.com/zinc/atoms.html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99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http://elements.vanderkrogt.net/images/portret/marggraf.jp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/>
              </a:rPr>
              <a:t>http://www.webelements.com/zinc/history.html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99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http://www.lib.utexas.edu/maps/europe/europe_95.jp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6"/>
          <a:stretch/>
        </p:blipFill>
        <p:spPr>
          <a:xfrm>
            <a:off x="2413080" y="7023240"/>
            <a:ext cx="4317840" cy="2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Element Symbol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1457280" y="3198960"/>
            <a:ext cx="6796080" cy="52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Periodic Tabl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1469880" y="3009960"/>
            <a:ext cx="9732960" cy="457200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6718320" y="4991040"/>
            <a:ext cx="1270080" cy="1270080"/>
          </a:xfrm>
          <a:prstGeom prst="rightArrow">
            <a:avLst>
              <a:gd name="adj1" fmla="val 32000"/>
              <a:gd name="adj2" fmla="val 440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Atom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1530360" y="2889360"/>
            <a:ext cx="5359320" cy="51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Isotopes and Ion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1450800" y="4740120"/>
            <a:ext cx="10090440" cy="12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Who Discovered?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Andreas Marggraf at 1746 in Germany.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ea typeface="Verdana"/>
                <a:hlinkClick r:id="rId1"/>
              </a:rPr>
              <a:t>Origin of nam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: from the German word "</a:t>
            </a:r>
            <a:r>
              <a:rPr b="0" lang="en-US" sz="16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zink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4754520" y="5786280"/>
            <a:ext cx="329076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Where?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1585800" y="3314880"/>
            <a:ext cx="5678640" cy="460980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2286000" y="4444920"/>
            <a:ext cx="1270080" cy="1270080"/>
          </a:xfrm>
          <a:prstGeom prst="rightArrow">
            <a:avLst>
              <a:gd name="adj1" fmla="val 32000"/>
              <a:gd name="adj2" fmla="val 44000"/>
            </a:avLst>
          </a:prstGeom>
          <a:solidFill>
            <a:srgbClr val="a40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Zinc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hen isolated, it is a very shiny, bluish-white metal.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7023240" y="3568680"/>
            <a:ext cx="4089240" cy="40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Use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1433520" y="4083120"/>
            <a:ext cx="10234440" cy="3225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